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5CF-F24E-470A-B60F-D88F2A4F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6A8-E80F-4F85-B533-17B5309F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B5B-B58B-42FD-AF7F-66BE8D1F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2A9-5007-4D0D-AC20-5958504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36C7-4D3E-4258-A35F-BDBAD5E4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E2B0-DBFD-4CBB-8DF1-FF1E704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D86-876C-4535-A00B-B0DC4767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311A-F051-4CA9-AFB0-F146C44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CD2A-8D96-4630-8D74-336C84C4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962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C9D2-71F6-419A-B89D-A8BF659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A11-EBA5-4DC1-8F45-50CFDA3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823-F960-4E5A-A833-8A6E708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F38-FE53-427A-907C-B411542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BB2-E3FE-43C8-97E2-63F5D2D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5F5-08A0-4BA5-B52C-0DFD480D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B676-0873-4120-8C2C-9020AA4A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2E85-2B49-4AAF-840A-833588D7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C9B-9177-4D3B-9EFA-627F75D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28B-E493-49F7-AE10-0605092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746-9C73-4BE3-B728-8A71918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962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4A3-0A8F-48E8-BC7E-53CEE7A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F86-B914-4DEF-9D49-6C552F7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866-439B-4FB1-A7A8-939D918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247-AD8C-46F6-8764-416BC89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112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496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836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0600" y="717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EEE-A035-4660-B034-004158AA9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64F4-5ED3-42E8-B6A0-549FB5979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atenea.lpi.tel.uva.es/~io1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907920"/>
            <a:ext cx="78120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geniería de las Ondas I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Infrasonidos y Ultrasonid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8440"/>
            <a:ext cx="64008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s Miguel Vega Fidal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Zorita Téll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lb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aire proveniente de la cavidad 1 se introduce por el canal superior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salida de A, el flujo de aire comprimido puede expandirse (cámara principal B es abierta y tiene menor presión): pueden ocurrir difracciones (apertura pequeñ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ondas expandidas se dirigen al otro lado de B y hac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 (reflexiones hacia atrá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uerte flujo principal de aire, que viene de A, pasa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vés de C y va hacia la cavidad 2 (sistema 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sa-resorte), que genera reflexiones hacia atrá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ando esas reflexiones cruzan el hoyo C se gener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fracciones en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ombinación de reflexiones, refracciones y expansion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ambas direcciones, con los dos hoyos circulares en un espac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ducido generan un conjunto dinámico de ondas y presion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iendo su sonido caracterí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dos cámaras resonadoras amplifican dos grupos de componentes frecu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838160" cy="14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86440" y="2781360"/>
            <a:ext cx="2257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lb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99308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con un aerófono. Los picos con mayor amplitud se observan en 2 y 6 kHz pero también se aprecian componentes infrasónicas con cierta intens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838160" cy="14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3645000"/>
            <a:ext cx="6192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ción infrasó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vos basados en la variación de una capacidad o resistencia eléct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ófonos usuales inservibles (gran longitud de onda): se utilizan los electroacús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óg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2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si desconoc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ificación según la intens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 &gt; 18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Provocan desgarro de los alvéolos pulmonares e, incluso, la muer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140 &lt; I &lt; 15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Ej: lanzamiento de cohetes. Con un tiempo pequeño de exposición, efecto casi nulo en personas en buen estado físic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120 &lt; I &lt; 14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Después de mucho tiempo de exposición aparecen perturbaciones fisiológicas y fatiga. Ejemplos: automovilista o aviador debido a sus vehícu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 &lt; 12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Desconocido. Una exposición de unos pocos minutos (unos 30 más o menos) no produce daño algu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402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ecta principalmente al sistema nervioso: equilib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uesta del organismo depen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componentes que forman dicho estímu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ombinación de estos dentro del estímu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onstitución del organism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eacción o decisión del recep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ún el tiempo de exposición y la frecu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,1 – 10 Hz: Deficiencias de movi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– 100 Hz: Dificultad de respiración y habl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– 100 Hz: Resonancias en el cuerp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– 800 Hz: Pérdida de vis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– 1000 Hz: Bajo rendimiento en 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839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recuencias crític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 Hz: impide concentr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2 Hz: malestar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uido neg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637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frasonidos y ultrasonidos son ondas sonoras de una frecuencia no apreciable por el oído huma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frasonidos: f &lt; 20 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ltrasonidos: f &gt; 20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de estas vibraciones son oídas y generadas por otras especies anim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5616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75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incipal: detección de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: baja absorción en el me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conveniente: detección de objetos grandes (gran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unicación en los elefantes a grandes dista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producció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úsqued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ordinar famil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azón: distancia entre los o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turas aplic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tección de fenómenos natu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lsas alarmas y medic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357336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26280" y="400536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ecisión en tpo y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407664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1676160"/>
            <a:ext cx="68551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. 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considera ultrasonido toda onda sonora con frecuencia superior a los 20 KH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ngitudes de onda desde micras hasta centímet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ltitud de aplic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2017440"/>
            <a:ext cx="7920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quema general del transduc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514680" cy="1419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4581360"/>
            <a:ext cx="7777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lemento Secundar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Genera una señal fácil de conseguir (eléctrica, magnétic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lemento Primar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ransforma la señal del secundario en energía mecánica que hace vibrar el medio circundante y provoca la onda de presión a alta frecuencia (ultrasoni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iezoeléctr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fecto piezoeléctric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l aplicar energía mecánica a ciertos materiales (cuarzo, turmalina,…), se crean cargas eléctr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Es posible el efecto inverso? Sí: al aplicar un campo eléctrico, aparecen tracciones y compresion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nerador ultrasón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iezoeléctr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2560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9640" y="2349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017800"/>
            <a:ext cx="43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2017800"/>
            <a:ext cx="403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01780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istal de cuarzo (corte en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bración longitudinal en bajas frecuencias (f &lt; 1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bración transversal en altas frecuencias (f &gt; 1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propiedades (potencia radiada, frecuencia de resonancia,…) dependen de la forma y el tam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suele usar la frecuencia de resonancia en la prác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os generadores ultrasónicos eléctr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de dieléctricos con polarización perman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taja: La onda ultrasónica generada no depende de las dimensiones y forma del mater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1676160"/>
            <a:ext cx="68551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magné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2017440"/>
            <a:ext cx="82090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es magnetoestrictivos (aleaciones de hierro, níquel,…): Al aplicar un campo magnético, se provocan esfuerzos mecán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nos usados que los eléctricos porque la potencia radiada es muy pequeñ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475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or impacto lá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étodo novedoso y en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una luz intensa como un láser incide sobre un material, se produce un proceso termoelástico que hace variar el volumen del mismo y crea el ultraso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todos los materiales se comportan así: puede haber efecto abla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medios tienen impedancias acústicas, que condicionan la propagación de la o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consideran ondas pla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enómenos ondulatorios típicos: Reflexión, Refracción y Dif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idado en los cambios de medio: Reflexiones. Coeficiente de reflexión: r = (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–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/(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+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pos fundament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ngitud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vers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yleigh o de superfi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: Ondas longitudi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bién se llaman de dila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ovimiento de partículas se produce en la dirección de propag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n variar al volumen del medio según se propa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: Ondas transver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bién se llaman de distor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ovimiento de partículas se produce en la dirección perpendicular a la de propag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rovocan variación en el volumen del medio al propag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pagación de ultrasonidos: Ondas Rayleigh o de superfic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2017440"/>
            <a:ext cx="80643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ación de las anteri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transmiten por la superficie de un me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partículas se mueven elíp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atenuación es alta por debajo de la superfic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547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as de detección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más importantes son los que se basan en el efecto piezoeléctrico directo (ej: micrófono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mpliamente utiliz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convenientes: Bajo ancho de banda y alta sensibilidad al ruido electromagné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os menos preci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Detectores calorimétric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iden la onda en función del aumento de temperatura que provoque en un material (absorción y transformación en c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as de detección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tectores mecánic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a onda ejerce una presión en un disco y provoca un movimiento del mi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están desarrollando transductores ópt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 ancho de banda y baja sensibilidad al ru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amiento complejo: Se toma una referencia y se analizan cambios de fase que se producen cuando el ultrasonido hace cambiar el tamaño de un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lvidar el efecto de car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ísicos 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vitación (el más importante): Si el ultrasonido tiene una amplitud elevada, las variaciones de presión pueden provocar que el material (líquido) pase a estado gaseoso. Se forman burbujas (cavidades), que tienden a colisionar entre sí y a liberar su energí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pende de la frecuencia, viscosidad, temperatur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ortancia en acústica submar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vi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0920" y="1700280"/>
          <a:ext cx="8713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713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químicos 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plicación de ultrasonidos en determinadas reacciones químicas (orgánicas sobre todo) favorece las mis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produce la cavitación, aparecen cargas iguales y opuestas en ambos lados de las cavidad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enómenos electrolí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ado y sondeo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2017800"/>
            <a:ext cx="820908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natural en algunos animales (murciélago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ionamiento: Se envían pulsos ultrasónicos, los cuales se reflejan en los objetos y se generan ecos. Éstos son procesados en tiempo y amplitud y, en base a esto, se da una dec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29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ado y sondeo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2017440"/>
            <a:ext cx="806436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y multitud de aparatos más sofisticados que usan ultrasonidos para medi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unos, por ejemplo, utilizan sistemas combinados de tonos y nivel, con el fin de aumentar el rango de distancias a detec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09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ultrasonidos se pueden emplear en la Medicina desde dos puntos de vis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nosis: como por ejemplo las ecograf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apia: como por ejemplo las litotri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lave para poder explorar el interior del organismo es similar a la utilizada para el guiado y sondeo: Emitir pulsos ultrasónicos y procesar los e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ondas atravesarán medios con distintas impedancias acústicas y se reflejarán de manera difer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ecos llegan al receptor donde se amplifican y se muestran en un osciloscop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necesario llegar a un compromi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ecuenci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↑ resolución pero ↑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ecuenci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↓ resolución pero ↓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suelen utilizar ultrasonidos a 2,5 M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plicación más importante en este sentido es la ecografía: se realiza un barrido por la zona a estudi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étodos novedosos: Ecografías en color y técnicas Doppler (corazón, flujo sanguíne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952720" cy="1819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79640" cy="1849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672000" cy="1616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25146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aplicaciones terapéuticas de los ultrason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itotricia: Destrucción de cálculos renales y vesicu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tamiento de tendiditis musculares (disuelve las calcifica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 absorción de medicamentos en las célu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s aplicacion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aplicaciones intere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imentación (en desarrollo): Se pueden destruir microorganismos en algunos alimentos, estudio de porcentajes de grasas en los alimento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licaciones en la industria: Soldadura de plásticos. Se utiliza un aparato llamado sonotrodo que convierte ultrasonidos en energía calorífica de manera muy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 más inform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ágina we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atenea.lpi.tel.uva.es/~io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 y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7040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Gracias por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su atención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04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forma general, definimos infrasonidos como las vibraciones con f &lt; 3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acterísticas de infrason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ón en ondas esfér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fíciles de concent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nor absorción que a altas a frecu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ores difíciles de fabri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tancias de alcance mayores debido a la menor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ción de inf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ficultad de fabric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das esféricas             presión y velocidad desfasadas 90º que se eliminará a una distancia d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ando desfase = 0, la onda está ya muy debilit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aturales: mar enfurecido, ciclones, volca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artificiales: cámara de combustión (resonancia), cohetes, explosiones de bomb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da sonora hasta los 100 km (audible) y a partir de los 200 (reflexión en la ozonosfera y suma de intensida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349360"/>
            <a:ext cx="792360" cy="144720"/>
          </a:xfrm>
          <a:prstGeom prst="rightArrow">
            <a:avLst>
              <a:gd name="adj1" fmla="val 50000"/>
              <a:gd name="adj2" fmla="val 1368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19447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8:54:24Z</dcterms:created>
  <dc:creator>Luis Miguel Vega</dc:creator>
  <dc:description/>
  <dc:language>en-US</dc:language>
  <cp:lastModifiedBy>-</cp:lastModifiedBy>
  <dcterms:modified xsi:type="dcterms:W3CDTF">2004-05-26T08:57:53Z</dcterms:modified>
  <cp:revision>45</cp:revision>
  <dc:subject/>
  <dc:title>Ingeniería de las Ondas I   Infrasonidos y Ultrasonidos</dc:title>
</cp:coreProperties>
</file>